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60B-8DF1-4D68-87C0-30D25BDA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CFB-7C68-42C2-8457-B14272AA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600-E6EF-414B-BBF8-A71AE63D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9EC-A89D-47D6-A636-5C71F53E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700-5069-4BA1-9409-0F5DD57C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E18-8E84-4737-A2EA-C1E977F2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A18-3502-44FD-BA46-2B29E4B0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64D-4347-477E-BFB9-D0FEF99F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BDE-466C-49E7-8749-54247EDB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CB8-9A3A-4193-AE8F-C5FF283A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355-4076-4D74-8D69-BAD1FECC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A547-AAEE-47CE-A289-D269930A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A513-0486-4A36-9339-E2EC6B7FDA90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а хемиј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ставна јединица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четрнаеста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8513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укле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3"/>
          <p:cNvGraphicFramePr/>
          <p:nvPr/>
        </p:nvGraphicFramePr>
        <p:xfrm>
          <a:off x="609480" y="1828800"/>
          <a:ext cx="769644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69644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6"/>
          <p:cNvGraphicFramePr/>
          <p:nvPr/>
        </p:nvGraphicFramePr>
        <p:xfrm>
          <a:off x="304920" y="1676520"/>
          <a:ext cx="8229600" cy="26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22960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7"/>
          <p:cNvSpPr/>
          <p:nvPr/>
        </p:nvSpPr>
        <p:spPr>
          <a:xfrm>
            <a:off x="228600" y="46483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8-хидроксихинолин (оксин) важан је реагенс у комплексометрији, са многим металима гради слабо растворне хелатне комплексе, погодне за гравиметријско одређивањ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993240" y="9144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кси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>
            <a:off x="1295280" y="12952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ривати хинолина (метилхинолини, хинолинкарбонске кисели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93080" y="3505320"/>
            <a:ext cx="11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ал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640840" y="342900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леп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71600" y="575316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алд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564880" y="57913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цинхон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9"/>
          <p:cNvGraphicFramePr/>
          <p:nvPr/>
        </p:nvGraphicFramePr>
        <p:xfrm>
          <a:off x="2057400" y="1752480"/>
          <a:ext cx="513072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13072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хинол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3"/>
          <p:cNvGraphicFramePr/>
          <p:nvPr/>
        </p:nvGraphicFramePr>
        <p:xfrm>
          <a:off x="685800" y="2257560"/>
          <a:ext cx="4038480" cy="22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57560"/>
                    <a:ext cx="403848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5943600" y="2438280"/>
          <a:ext cx="1609560" cy="19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438280"/>
                    <a:ext cx="160956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7"/>
          <p:cNvSpPr/>
          <p:nvPr/>
        </p:nvSpPr>
        <p:spPr>
          <a:xfrm>
            <a:off x="1449360" y="46483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ин (алкало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716080" y="457200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5-NOK (уроантисепт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есточлани системи са једним кисео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1295280" y="1806480"/>
          <a:ext cx="601992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06480"/>
                    <a:ext cx="601992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1067760" y="3124080"/>
            <a:ext cx="17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Н ил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659760" y="31240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4Н ил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6960" y="31240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тетрахидропи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1144080" y="579132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 ил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ир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250320" y="571500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лиј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атј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720240" y="57531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4 ил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пир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еточлани хетероцикли са два хетеро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295280" y="1295280"/>
          <a:ext cx="6177240" cy="28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177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1137960" y="2666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азол                имида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796640" y="2666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ксазол               окса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195720" y="434340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тиазол                  тиа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215440" y="49528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активност према електрофил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137960" y="5791320"/>
            <a:ext cx="71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мид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с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ти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пир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изоксазо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изотиаз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азол или 1,2-д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914400" y="1219320"/>
          <a:ext cx="71629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1629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5"/>
          <p:cNvSpPr/>
          <p:nvPr/>
        </p:nvSpPr>
        <p:spPr>
          <a:xfrm>
            <a:off x="1526400" y="380988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аутомерни обли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990720" y="4572000"/>
          <a:ext cx="4190760" cy="13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572000"/>
                    <a:ext cx="41907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8"/>
          <p:cNvSpPr/>
          <p:nvPr/>
        </p:nvSpPr>
        <p:spPr>
          <a:xfrm>
            <a:off x="1203480" y="609588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Н                       3Н                         4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762120" y="3505320"/>
            <a:ext cx="46479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1449360" y="2057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ентан-2,4-ди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5792400" y="44197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3,5-диметилпиразо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азол или 1,2-д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1371600" y="1905120"/>
          <a:ext cx="1089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1089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5105520" y="1987560"/>
          <a:ext cx="304776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987560"/>
                    <a:ext cx="304776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AutoShape 10"/>
          <p:cNvSpPr/>
          <p:nvPr/>
        </p:nvSpPr>
        <p:spPr>
          <a:xfrm rot="20291400">
            <a:off x="990720" y="297144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1"/>
          <p:cNvSpPr/>
          <p:nvPr/>
        </p:nvSpPr>
        <p:spPr>
          <a:xfrm rot="12775800">
            <a:off x="243792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81000" y="32767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иролск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аз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292120" y="3048120"/>
            <a:ext cx="18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иридинск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аз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4800600" y="29718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иролск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аз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+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6635520" y="2971800"/>
            <a:ext cx="181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иридински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азо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+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8" descr=""/>
          <p:cNvPicPr/>
          <p:nvPr/>
        </p:nvPicPr>
        <p:blipFill>
          <a:blip r:embed="rId5"/>
          <a:stretch/>
        </p:blipFill>
        <p:spPr>
          <a:xfrm>
            <a:off x="1219320" y="3886200"/>
            <a:ext cx="2895480" cy="2370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1"/>
          <p:cNvSpPr/>
          <p:nvPr/>
        </p:nvSpPr>
        <p:spPr>
          <a:xfrm>
            <a:off x="1219320" y="48769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2"/>
          <p:cNvSpPr/>
          <p:nvPr/>
        </p:nvSpPr>
        <p:spPr>
          <a:xfrm>
            <a:off x="175248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3"/>
          <p:cNvSpPr/>
          <p:nvPr/>
        </p:nvSpPr>
        <p:spPr>
          <a:xfrm>
            <a:off x="2590920" y="41911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4"/>
          <p:cNvSpPr/>
          <p:nvPr/>
        </p:nvSpPr>
        <p:spPr>
          <a:xfrm>
            <a:off x="2209680" y="541008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3276720" y="48769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зонантне структуре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533520" y="2590920"/>
          <a:ext cx="775944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775944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AutoShape 6"/>
          <p:cNvSpPr/>
          <p:nvPr/>
        </p:nvSpPr>
        <p:spPr>
          <a:xfrm rot="2538000">
            <a:off x="6629400" y="21337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568040" y="1447920"/>
            <a:ext cx="34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вац напада електрофи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1676520" y="1295280"/>
          <a:ext cx="2819160" cy="16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28191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5"/>
          <p:cNvGraphicFramePr/>
          <p:nvPr/>
        </p:nvGraphicFramePr>
        <p:xfrm>
          <a:off x="1676520" y="3309840"/>
          <a:ext cx="297180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09840"/>
                    <a:ext cx="2971800" cy="16480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3" name="Object 7"/>
          <p:cNvGraphicFramePr/>
          <p:nvPr/>
        </p:nvGraphicFramePr>
        <p:xfrm>
          <a:off x="1600200" y="5105520"/>
          <a:ext cx="5943600" cy="129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105520"/>
                    <a:ext cx="594360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9"/>
          <p:cNvSpPr/>
          <p:nvPr/>
        </p:nvSpPr>
        <p:spPr>
          <a:xfrm>
            <a:off x="306000" y="19051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306000" y="38862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06000" y="54864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2209680" y="1981080"/>
            <a:ext cx="38124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876920" y="5410080"/>
            <a:ext cx="38088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ензопири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69200" y="3886200"/>
            <a:ext cx="18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енз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о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659760" y="388620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енз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охино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6174000" y="3886200"/>
            <a:ext cx="23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енз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олизинијум-катј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10"/>
          <p:cNvGraphicFramePr/>
          <p:nvPr/>
        </p:nvGraphicFramePr>
        <p:xfrm>
          <a:off x="838080" y="2438280"/>
          <a:ext cx="7391520" cy="12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739152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тровање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914400" y="1676520"/>
          <a:ext cx="723888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2388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утомерија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5029200" y="1222200"/>
          <a:ext cx="3505320" cy="12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222200"/>
                    <a:ext cx="3505320" cy="12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8"/>
          <p:cNvGraphicFramePr/>
          <p:nvPr/>
        </p:nvGraphicFramePr>
        <p:xfrm>
          <a:off x="152280" y="1600200"/>
          <a:ext cx="6248520" cy="46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600200"/>
                    <a:ext cx="624852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9"/>
          <p:cNvSpPr/>
          <p:nvPr/>
        </p:nvSpPr>
        <p:spPr>
          <a:xfrm>
            <a:off x="2210040" y="4876920"/>
            <a:ext cx="64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дентичност положаја 3 и 5 доказана је тако што ј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лиминацијом фенил-групе из 1-фенил-3-метилпиразол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 1-фенил-5-метилпиразола добијен исти метилпиразо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 rot="2226600">
            <a:off x="3781080" y="2840040"/>
            <a:ext cx="398520" cy="9684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 rot="2226600">
            <a:off x="5790960" y="2819520"/>
            <a:ext cx="398520" cy="9684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5486400" y="1219320"/>
            <a:ext cx="304920" cy="3045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5029200" y="1523880"/>
            <a:ext cx="304920" cy="3049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7238880" y="1523880"/>
            <a:ext cx="304920" cy="30492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7696080" y="1219320"/>
            <a:ext cx="304920" cy="3045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талитичка редукција пир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1676520" y="2286000"/>
          <a:ext cx="579096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579096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3730680" y="41911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иразолин                 пиразолид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367640" y="502920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иразол је врло отпоран према оксидационим средстви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ли подлеже каталитичкој редукциј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мидазол или 1,3-д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3"/>
          <p:cNvGraphicFramePr/>
          <p:nvPr/>
        </p:nvGraphicFramePr>
        <p:xfrm>
          <a:off x="685800" y="1600200"/>
          <a:ext cx="512136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51213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1295280" y="4495680"/>
          <a:ext cx="4238640" cy="18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95680"/>
                    <a:ext cx="423864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Oval 8"/>
          <p:cNvSpPr/>
          <p:nvPr/>
        </p:nvSpPr>
        <p:spPr>
          <a:xfrm rot="18656400">
            <a:off x="1407240" y="4340520"/>
            <a:ext cx="600120" cy="106524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9"/>
          <p:cNvSpPr/>
          <p:nvPr/>
        </p:nvSpPr>
        <p:spPr>
          <a:xfrm rot="18656400">
            <a:off x="4157640" y="4281120"/>
            <a:ext cx="617400" cy="106524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зонантне структуре имид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838080" y="1905120"/>
          <a:ext cx="7353360" cy="30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353360" cy="30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6"/>
          <p:cNvSpPr/>
          <p:nvPr/>
        </p:nvSpPr>
        <p:spPr>
          <a:xfrm>
            <a:off x="1672560" y="4648320"/>
            <a:ext cx="344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вац напада електрофи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7"/>
          <p:cNvSpPr/>
          <p:nvPr/>
        </p:nvSpPr>
        <p:spPr>
          <a:xfrm rot="18881400">
            <a:off x="2933640" y="361908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имидаз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1828800" y="1541520"/>
          <a:ext cx="541008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41520"/>
                    <a:ext cx="541008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1905120" y="3200400"/>
          <a:ext cx="304776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200400"/>
                    <a:ext cx="304776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9"/>
          <p:cNvGraphicFramePr/>
          <p:nvPr/>
        </p:nvGraphicFramePr>
        <p:xfrm>
          <a:off x="1828800" y="5257800"/>
          <a:ext cx="5867280" cy="13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257800"/>
                    <a:ext cx="586728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2"/>
          <p:cNvSpPr/>
          <p:nvPr/>
        </p:nvSpPr>
        <p:spPr>
          <a:xfrm>
            <a:off x="306000" y="19810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06000" y="40384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382320" y="57913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2209680" y="1523880"/>
            <a:ext cx="38124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6248520" y="2209680"/>
            <a:ext cx="304560" cy="30492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7"/>
          <p:cNvSpPr/>
          <p:nvPr/>
        </p:nvSpPr>
        <p:spPr>
          <a:xfrm>
            <a:off x="4343400" y="4114800"/>
            <a:ext cx="380880" cy="3808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7162920" y="5791320"/>
            <a:ext cx="304560" cy="30456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1676520" y="5029200"/>
            <a:ext cx="6248160" cy="16765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мидазолов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1371600" y="2057400"/>
          <a:ext cx="601992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01992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Text Box 5"/>
          <p:cNvSpPr/>
          <p:nvPr/>
        </p:nvSpPr>
        <p:spPr>
          <a:xfrm>
            <a:off x="1413360" y="422928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стидин                                                     хистам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Skraup-ова синтеза хин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371600" y="1117440"/>
          <a:ext cx="6553080" cy="558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117440"/>
                    <a:ext cx="65530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Skraup-ова синтеза хин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1295280" y="1828800"/>
          <a:ext cx="650556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50556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нска структура хин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3"/>
          <p:cNvGraphicFramePr/>
          <p:nvPr/>
        </p:nvGraphicFramePr>
        <p:xfrm>
          <a:off x="1523880" y="2286000"/>
          <a:ext cx="6400800" cy="28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0"/>
                    <a:ext cx="64008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Oval 6"/>
          <p:cNvSpPr/>
          <p:nvPr/>
        </p:nvSpPr>
        <p:spPr>
          <a:xfrm>
            <a:off x="1447920" y="4038480"/>
            <a:ext cx="1752480" cy="1143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ксидација хино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838080" y="1905120"/>
          <a:ext cx="7391520" cy="36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391520" cy="36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5"/>
          <p:cNvSpPr/>
          <p:nvPr/>
        </p:nvSpPr>
        <p:spPr>
          <a:xfrm>
            <a:off x="3887640" y="571500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нолинс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462000" y="5676840"/>
            <a:ext cx="13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икотинс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479280" y="3352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-хинол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Редукција хино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838080" y="2286000"/>
          <a:ext cx="7623360" cy="16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62336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5"/>
          <p:cNvSpPr/>
          <p:nvPr/>
        </p:nvSpPr>
        <p:spPr>
          <a:xfrm>
            <a:off x="609840" y="393876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,3,4-тетрахидрохино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555240" y="38862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екахидрохинол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5"/>
          <p:cNvGraphicFramePr/>
          <p:nvPr/>
        </p:nvGraphicFramePr>
        <p:xfrm>
          <a:off x="457200" y="2065320"/>
          <a:ext cx="8229600" cy="35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65320"/>
                    <a:ext cx="8229600" cy="35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1447920" y="1143000"/>
          <a:ext cx="6400800" cy="55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43000"/>
                    <a:ext cx="640080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7:17:25Z</dcterms:created>
  <dc:creator>FullNameHere</dc:creator>
  <dc:description/>
  <dc:language>en-US</dc:language>
  <cp:lastModifiedBy>Гордана Радић</cp:lastModifiedBy>
  <dcterms:modified xsi:type="dcterms:W3CDTF">2016-09-06T07:34:16Z</dcterms:modified>
  <cp:revision>21</cp:revision>
  <dc:subject/>
  <dc:title>Slide 1</dc:title>
</cp:coreProperties>
</file>